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05643"/>
        <c:axId val="18958641"/>
      </c:barChart>
      <c:catAx>
        <c:axId val="37205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8641"/>
        <c:crosses val="autoZero"/>
        <c:auto val="1"/>
        <c:lblAlgn val="ctr"/>
        <c:lblOffset val="100"/>
        <c:noMultiLvlLbl val="0"/>
      </c:catAx>
      <c:valAx>
        <c:axId val="18958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05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F3B-4DDE-4110-AF8F-F8314DD7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B34-6C6C-43BF-B9D4-D3738D6D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53B-4469-4538-89A3-77C61F0B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892-8B08-4DB1-B657-9B25ADCD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52B-B6C5-4443-99C4-C438B294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4C3-A0F2-4D0A-9063-7D576366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7F6-6211-4B87-ACD4-B7C92598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E51-B4BD-4FF6-8253-68DDB062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176-913C-4D53-856A-7B89B470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B5A-CB6B-4E9B-BA60-FC4012CE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09B-DB8B-4DF8-8733-6E6C999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4FC-9CC4-4ED6-BCE6-A97A1C9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E2B61-1E6F-46EC-A069-80F19D02D8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