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53401"/>
        <c:axId val="545043"/>
      </c:barChart>
      <c:catAx>
        <c:axId val="52553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043"/>
        <c:crosses val="autoZero"/>
        <c:auto val="1"/>
        <c:lblAlgn val="ctr"/>
        <c:lblOffset val="100"/>
        <c:noMultiLvlLbl val="0"/>
      </c:catAx>
      <c:valAx>
        <c:axId val="545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53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22D-465F-4B46-ACA2-47FD6848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B46-0F0A-4732-A52B-AF4E9802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A37-2399-479E-B192-1978EB11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D0F-03CA-498F-A325-04474472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26C-53AA-40D6-A156-FCD74172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2E6-E4BC-4DB5-803B-C4A0D65B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11D-7155-42D0-9ADE-B515CC7A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D42-C73B-46F9-BDBD-0EA22304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974-210F-4BF1-A1B0-599DD498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F7F-EA85-42C8-9175-F17C660D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98F-1681-4CB1-B275-81E7C24B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93A-CE2B-4027-99C4-F4F7F878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26442-54AF-4883-A4F0-DEC6E5326A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