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04215"/>
        <c:axId val="20691935"/>
      </c:barChart>
      <c:catAx>
        <c:axId val="36504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91935"/>
        <c:crosses val="autoZero"/>
        <c:auto val="1"/>
        <c:lblAlgn val="ctr"/>
        <c:lblOffset val="100"/>
        <c:noMultiLvlLbl val="0"/>
      </c:catAx>
      <c:valAx>
        <c:axId val="20691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04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718-FC56-497B-98CA-2D8DE189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C06-C758-4C45-95BE-1481491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54F-5AE1-4534-8E91-FBC36118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9BD-0F5B-45FE-B34D-BCDA3469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031-1AB6-4301-B14F-2A6C449F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A52-988C-4595-95DC-631A12DB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3D0-9AC8-44B7-A6F2-8E7C3D4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378-306C-442A-AC31-5DBD3AD4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D07-5F52-4CFC-9BEC-AD3803D1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C04-11A2-45D5-B7E3-020B819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9AD-05E0-4580-9511-C4161116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650-77E8-4DAA-B7AE-7118031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7B562-A1F2-4DB5-81E5-D70E367C22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