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666471"/>
        <c:axId val="95113322"/>
      </c:barChart>
      <c:catAx>
        <c:axId val="396664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13322"/>
        <c:crosses val="autoZero"/>
        <c:auto val="1"/>
        <c:lblAlgn val="ctr"/>
        <c:lblOffset val="100"/>
        <c:noMultiLvlLbl val="0"/>
      </c:catAx>
      <c:valAx>
        <c:axId val="951133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664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FAA3-A31D-473A-9FB9-9FC76FC4B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D081-32D7-4841-84CF-6980FBC9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BC3E-EA37-4E92-9DA7-C8ED6E522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7A55-3C42-4940-98D2-F217FE848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2CA5-1DE4-483A-9CD6-0F7F7574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2D82-E525-4A0C-8561-177CB47A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7980-14A6-47B0-8792-05B03779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6845-0E21-42B9-9578-A583B783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9550-493C-4610-8B6B-46BBD58D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9488-1AD5-489C-89F2-10F8065A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D265-CD08-4B90-BBF2-74536AC2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EE67-B078-48CE-AE69-1AA36599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DF1AB-7745-44E9-B638-D8E8A96DE2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